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5A73-48FE-436E-88D6-CDD3379BB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DC4-D59A-44F0-8B1C-14288361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90D-DB42-439F-8103-9ACEFF580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4C42-2D34-49B8-9BE0-E3D0F9E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505C-F13F-43EC-BE03-43440E04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9727-2C0A-4EDC-AEF1-239E26F9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2EF1-817F-42A9-9A3C-6BF714A0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0F73-60F0-4D0A-8611-2F5DCA51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241-CEB3-4134-AC7C-9B20A534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686-6899-4F68-A62D-9CE59358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8BF-6DD3-4D60-8FD8-0B33A69A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83EC-BEE1-48E3-9853-9F5EB0F2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C5EF-5515-4B4E-A892-61850A1FE1B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Иконопись в Древней Ру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8120" y="1447920"/>
            <a:ext cx="579096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...её сияющие краски, сильные и яркие, её ритмические силуэты, певучие и мягкие, её просветленные лики, ласковые и поэтичные, её эпическое настроение, спокойное и сосредоточенное, - все это вызывает ощущение какой-то внутренней легкости, когда все противоборствующие страсти приведены в согласие и когда возникает это особое чувство гармонии, которое рождается при звуках современной музык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В. Н. Лазар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4" descr="Георгий_ Новгород нач15в"/>
          <p:cNvPicPr/>
          <p:nvPr/>
        </p:nvPicPr>
        <p:blipFill>
          <a:blip r:embed="rId1"/>
          <a:stretch/>
        </p:blipFill>
        <p:spPr>
          <a:xfrm>
            <a:off x="395280" y="1484280"/>
            <a:ext cx="2487600" cy="35877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4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Что такое икон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кона (в переводе с греческого – «образ») – это изображения Иисуса Христа, Богоматери, святых, которые призваны напоминать о событиях Священного пис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4Virgin Eleusa"/>
          <p:cNvPicPr/>
          <p:nvPr/>
        </p:nvPicPr>
        <p:blipFill>
          <a:blip r:embed="rId1"/>
          <a:stretch/>
        </p:blipFill>
        <p:spPr>
          <a:xfrm>
            <a:off x="468360" y="1268280"/>
            <a:ext cx="420048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Особенности живопис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7345440" cy="45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В отличие от византийских , русский иконописец предпочитает мягкую светотеневую манеру, так называемую плавь, то есть плавно накладывали крас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Тона красок накладывались в несколько слоёв с учётом просвечивания более ярких  нижних через прозрачные и светлые верхние. Наиболее выступающие места покрывались светлой краской несколько раз, так что эти участки многослойного письма производят впечатление излучающих свет, светонос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Цветовая гамма икон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Цветовая гамма русских икон поражает своим разнообразием. Цвет также необходим образам-символам, как и геометрические фигуры, в которые они вписываются. Цветом озаряется линия, чтобы зазвучать ещё краше, обрести ещё большую музыка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6" descr="Державная1"/>
          <p:cNvPicPr/>
          <p:nvPr/>
        </p:nvPicPr>
        <p:blipFill>
          <a:blip r:embed="rId1"/>
          <a:stretch/>
        </p:blipFill>
        <p:spPr>
          <a:xfrm>
            <a:off x="154080" y="1413000"/>
            <a:ext cx="4224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Спас Нерукотворны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1680" y="1676160"/>
            <a:ext cx="4191120" cy="21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вгород 12 ве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51200" y="1676160"/>
            <a:ext cx="419112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пас Нерукотворный» - один из самых известных и почитаемых образов Христа. Существует несколько легенд о его происхождении. Считается, что этот образ является самым достоверны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7" descr="Спас Нерукотворный Новгород"/>
          <p:cNvPicPr/>
          <p:nvPr/>
        </p:nvPicPr>
        <p:blipFill>
          <a:blip r:embed="rId1"/>
          <a:stretch/>
        </p:blipFill>
        <p:spPr>
          <a:xfrm>
            <a:off x="87480" y="2060640"/>
            <a:ext cx="4286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Спас Вседержитель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14 век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Образ Христа, благословляющего верующих. В правой руке он держит Евангел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11640" y="1628640"/>
            <a:ext cx="419400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5" descr="Вседержитель 14в Византия"/>
          <p:cNvPicPr/>
          <p:nvPr/>
        </p:nvPicPr>
        <p:blipFill>
          <a:blip r:embed="rId1"/>
          <a:stretch/>
        </p:blipFill>
        <p:spPr>
          <a:xfrm>
            <a:off x="4627440" y="1484280"/>
            <a:ext cx="375300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26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Иконографический тип Елеуса (Умиление)</a:t>
            </a:r>
            <a:br>
              <a:rPr sz="4000"/>
            </a:br>
            <a:r>
              <a:rPr b="1" lang="ru-RU" sz="4000" spc="-1" strike="noStrike">
                <a:solidFill>
                  <a:srgbClr val="b7e7ff"/>
                </a:solidFill>
                <a:latin typeface="Monotype Corsiva"/>
              </a:rPr>
              <a:t>Богоматерь Владимирск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2" name="Picture 3" descr="Владимирская"/>
          <p:cNvPicPr/>
          <p:nvPr/>
        </p:nvPicPr>
        <p:blipFill>
          <a:blip r:embed="rId1"/>
          <a:stretch/>
        </p:blipFill>
        <p:spPr>
          <a:xfrm>
            <a:off x="368280" y="1484280"/>
            <a:ext cx="3728880" cy="53737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Monotype Corsiva"/>
              </a:rPr>
              <a:t>Поясной образ, символизирующий материнскую любовь и единение с Христом. Голова Богоматери наклонена. Христос прижимается к её щек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7e7ff"/>
                </a:solidFill>
                <a:latin typeface="Monotype Corsiva"/>
              </a:rPr>
              <a:t>Богоматерь Донска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3" descr="Донская икона Божией Матери"/>
          <p:cNvPicPr/>
          <p:nvPr/>
        </p:nvPicPr>
        <p:blipFill>
          <a:blip r:embed="rId1"/>
          <a:stretch/>
        </p:blipFill>
        <p:spPr>
          <a:xfrm>
            <a:off x="380880" y="1523880"/>
            <a:ext cx="3495960" cy="449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Богоматерь Донская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Историческая реликвия, овеянная славой. Её чтили как защитницу       Отеч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e7ff"/>
                </a:solidFill>
                <a:latin typeface="Monotype Corsiva"/>
              </a:rPr>
              <a:t>Богоматерь Панагия (Всесвятая).На груди Богоматери Оранты  изображён в круге славы Христос.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8" name="Picture 5" descr="10- Знамение"/>
          <p:cNvPicPr/>
          <p:nvPr/>
        </p:nvPicPr>
        <p:blipFill>
          <a:blip r:embed="rId1"/>
          <a:stretch/>
        </p:blipFill>
        <p:spPr>
          <a:xfrm>
            <a:off x="4199040" y="1676520"/>
            <a:ext cx="4151160" cy="4572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Беря начало от византийской живописи, русская иконопись сумела выработать самостоятельный язы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ля неё характерны и свой способ отражения жизни, и свои живописные приёмы, и свои секреты ремес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8:22:31Z</dcterms:created>
  <dc:creator>Сергей</dc:creator>
  <dc:description/>
  <dc:language>en-US</dc:language>
  <cp:lastModifiedBy>Owner</cp:lastModifiedBy>
  <dcterms:modified xsi:type="dcterms:W3CDTF">2011-07-11T09:47:41Z</dcterms:modified>
  <cp:revision>13</cp:revision>
  <dc:subject/>
  <dc:title>Искусство иконописи в Древней Руси</dc:title>
</cp:coreProperties>
</file>